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557-007D-470E-93B7-0775E257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F06-2103-4849-944E-1166010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44FA1-A684-409F-ABF4-FFA2941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D4E96-6301-4F1D-B913-19E75B2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DD02-2942-4ED7-9832-CE5A96A6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145C9-A536-4D4D-A758-677476A8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1BF89-8E13-4EC9-8C48-DA782D4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89ED7-A2E2-497D-AD19-A8105EF0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E918C-3AAA-4CD5-B600-C1D495B2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11591-2794-4F8A-8ADB-7C60C052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46DE6-F6E7-4915-934A-96502891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C648F-540B-44CB-9494-953E7607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C69-15E2-45DD-8F07-72343D74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6B1E5-34C3-45D8-A514-2A61D2C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E44B8-A120-4F20-A771-7490740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703DC-BBE8-4E21-8151-0D469C20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49F7-63D1-43CE-9AC1-BE3A025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4B1A-7F3F-4CC3-B392-EF6D6EE9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C9E5D-15F8-4575-BBF2-EEF9B87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0F7C1-DA0A-43D5-8E0D-574F2960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FA8AA-298F-4EE9-9197-6168814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7DB13-A12A-4751-B8EF-A2D7C05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C4E34-3BB7-404B-B2D1-31C1FA3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3D9-18A3-4C7F-BFB9-53A384C7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0E710-9C6C-4D51-9B3F-6709A5D1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F84FC-43AD-4A43-835E-9564FBA5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65DC3-2186-4338-876B-987B2C15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3EC54-9D98-4B50-99E6-DC37E500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8057B-15B0-4F57-9B4B-77123892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BD0B0-C2E4-4BE9-95E8-75BC64F1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E8A56-280D-4E4F-9042-532F8D8C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49CE3-C251-4C2A-89C7-BC70014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2BFAF-5D64-4709-9EC1-BE726C0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6EC6A-50FF-4C53-AFF4-C3F2285B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7607-F1D0-4A0A-9842-E30FFA56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C90AE-69B3-40BD-AFC7-53E9C388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3A143-EB5B-40D1-9010-FC8B8056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A2C5-D20F-42C7-B63E-6330FAA5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F4706-3207-4591-8141-FC2F98F8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A6523-692E-4E5B-BF2C-E509D1C4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FEF5D-5D36-463A-88BD-9EC215A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A3B2D-E339-4555-A9B5-76A6FD6E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47ED5-86D8-4997-BABB-30A2518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63143-110E-43C3-94FC-854C1E2D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E1ED8-9B14-455E-B072-861E0E4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237A-9427-4299-98F5-2CB3986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4C0AC-7648-49A2-8E93-11DFD7E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DDD92-6EE9-49F1-BC30-B28EDE0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B934C-7BAB-4D42-B21F-D2AF90E2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696EC-97EB-433C-A684-EAE7B096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6ADC7-FC11-4A95-BCA9-C4B678F2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CD833-BFE3-40AD-9857-A3C7014C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94E7F-96F2-4659-8475-31C4EFE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EE70D-F1C0-4E28-B594-B060EB0E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FA973-9F74-4852-AB1B-8FD8D8AA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5F2DA-C09B-41E8-9DD8-C1197C17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B53D-D1D5-4D3A-A439-4CBE5448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FCC17-10B2-444C-8483-6276BF1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580E1-8E52-48BB-8384-25796F72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45954-ECAE-4EA8-BFD9-941AD20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E69C3-D760-443D-BDC8-F67116B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CD7A2-6749-441F-B94C-E81DC46B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027E7-9007-43DC-A81F-CB165175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5D036-6E06-48AE-BE01-0B356D2B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A9745-D0CB-4E64-85BF-175F6EC8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4EEE5-732A-4B56-A093-467A78E7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B8326-CE32-4CF3-8F06-05BFAD63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F7CF-D05F-4B47-A20B-8DBEAC7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4FB7E-46F3-4BF3-8C97-9866D1E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FC134-81BC-4A7E-A0CE-A7E3385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5CEED-C01A-4C8B-B328-651BCE3B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F043F-D064-4F02-A1A8-50AA047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8FA20-9516-40F6-9E3A-66FEAFCF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780FF-650F-4B0D-9844-2ACFD460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D7D5F-BC35-4A28-B5DD-4941E47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837DB-0475-45E7-BB68-97A958F9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A03E3-1DCB-44AD-B39B-85A3CF8E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B5E50-8F07-43A4-8372-F9CA255E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CAFA-985F-4128-BE7B-26B89FA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4E93E-A854-4C46-AF30-7576407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0BFD1-F835-4ECA-8ACA-AA50F46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C4C4B-B37B-41CC-8BF7-482CA3DC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EB858-4BD4-4E75-BC6B-88BBF18E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1E3D7-3625-4864-AD16-AA554AD0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A398C-9C63-43B8-8A13-49A3FA0B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8D118-EBF4-4FC8-BD05-0CE0A670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1F31C-B991-4F4B-B36F-7FB0C79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0C333-78DE-453B-BDC0-2E336B7B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956EF-DC47-451B-9C26-B1E5956B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A02E-F98C-4A43-8A48-091D529C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FA0D8-A888-455B-AEB9-B52F0F3F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2B573-7C82-4474-B6BA-35B011A2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81314-5C2C-4C87-BCE5-3A295189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03D3A-DD50-46FA-BE14-A8094977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59633-0186-485F-BC80-302E4E0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79C5C-98E0-4447-A387-ED92B7E6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389AE-FC16-4FBF-9210-26DA93B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ABB3F-FA51-4156-BF9E-61F56534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745D76-1ABD-4E54-969C-75F10E1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F1BBD-68E2-4A56-B9B4-E17E3B96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F777-957B-4E34-9B36-479FE6E4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B01A3-2FEE-4A95-AC74-B2CC820F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1B596-9B66-49AF-B5A3-78C2BE0B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AB4B6-C70E-4666-B101-A8543325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75492-02BC-4F16-B42B-79D24184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D1C73-42F3-4985-A65A-97757D8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FB99A-0E71-4F1F-9758-BE765B52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6D74A-B9BB-437B-8C4B-E9728E82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3EA7E-99D9-4107-BBCF-D72F0451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E74C1-CC46-4B31-A0BD-7A7B347F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3B284-1347-4697-AE52-A17F30D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BF3-96E0-42A9-A63F-00FB37FD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75E-63E1-46D3-86A8-55DF744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5A363-CDE7-4DDC-851D-B4EB3EA3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A9478-5AB9-417D-9EAB-7DAC89DE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8897E-77A7-4C6E-8219-1898A1B8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12A36F-ACA4-41DD-BFDA-B5752B29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55577-6BEE-46CE-A918-19F7DC5E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B594DC-D14E-4DD5-AF2C-70C79C01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521AA-5D0A-4836-AC51-0C0C757A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ED5D8-4DDB-4C36-B193-FFF2693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D2443B-4A1B-4C55-9118-FBA53B1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295DE-647A-4CD0-A9E6-B9BA6AB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78F8-AA30-4A6E-A12D-6885223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9A5476-C3FD-441F-9328-AD02A1D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A1A43-B062-4806-9FA0-2ED0B18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91B45-0038-48C8-9594-62C6ED8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21E98-5E83-45E3-B891-15263E5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8510F-B038-49E7-ABA7-357B640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AD22C-D115-4C81-8C6C-7A782AD4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740EAC-4B09-4E79-8097-7C7F95DC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17190-5B17-462F-AC75-C6F4A001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7FBDC-02B2-49E4-AB4A-FAF99670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328A6-D878-4868-8941-6C5EAAC0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A7F6-FE67-4D85-8418-829AE647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88511-F3AD-4517-BF6B-6F6D4DAB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09F7B-E92F-4627-B0B2-F40156C8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9A477-D7E1-4D64-ADFD-3DF061B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F6DA1-E9FD-4D98-96A9-F220B367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D64ED-136B-4F26-9FAB-093B29C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B895C1-FF4C-4E54-A031-47A9007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399B5-B42E-495D-81AF-0A1DE945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6ADEE7-47F9-43BE-B1D9-6EFBFEB2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60E13-97A6-436C-A669-90CE827C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D0C34-90AC-4C05-A230-614B20CE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62B1-F582-405B-AC3B-150775AF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F7858-7309-4E60-BEBD-F68A56D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B1E9A-CE38-476F-A06E-8919D164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879D4-FBA2-47C0-913A-52DB28C4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FD812-CAB5-425E-A06C-06E89746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7E3B5-BD97-47AF-BBBC-09E2FC65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02685-055E-41CE-954A-EC628A3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EE5FE-C684-466C-A957-E703243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1A2B4-ABE2-4B94-A8C9-A63B2727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865F2-8CB7-4AC6-8298-01708597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6EAB1-98A4-4756-ABD7-F72619DC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EE83-6F93-47E9-AD4D-2B3EBDE6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D268A-82B7-4386-85E7-BE285A20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9D062-4374-4FAC-A1F6-2E5FEE73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AC3F8-CCCE-43CF-9992-6314FB9D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D48FB-7E5E-4CE8-ACB7-C1A42D19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C5302-05E5-4CF7-A40B-71B871E7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0925C3-B1F7-4366-B6FF-FD0D5D9D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653B5-B1D4-4A76-9A04-031490E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8E61C-3C39-4438-B8FA-9C3BF2C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50840F-6733-4481-B830-034874C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B0DF2-F4CB-4CA0-B3CC-FBC0DA97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8A4A-76CD-484A-B379-CFCEF189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F75A0E-CAAD-475C-9CD4-303B7251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D5AA0-20C3-4DE9-BA8B-5A4B06F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9DD23-3FDA-4A63-B282-7943A187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4A1C-F97D-4465-8E2D-6F330F28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91D9-284C-4A40-8018-55E62088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17F8-C387-4CAE-8250-42E5651B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0532-EB34-4C71-973A-90949D5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BE3-CBC4-4769-93D7-F827524D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401D-4AA3-4DF9-9A88-02F6A3ED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D0A1-419E-404C-89EA-012AC47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3494-E639-4B94-BC2C-28744F0C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75A9F-0F34-44C3-A380-FC9E074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5EE0-5957-41FB-B18A-BC56350C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EEA1-CE83-4B32-B21F-275146F5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0685-0487-4BA6-BC51-4FE5E39C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34BB-7BBA-4F6C-B2DA-EDB912C2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5BB7-D697-4852-999C-1B4934EC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7376-B1B7-4B56-BB1B-76CEDC07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1E9-546D-4EC1-A15E-7BA4777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1383-832D-4487-A367-C85A8C4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5065-C33F-4BDA-85A5-6D513C5B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3636B-1A72-4982-BCFB-05D33AC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44A5-C2C3-41E9-8566-E8AEA6D5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19797-9C90-4FCD-AF47-82D9D5E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D4C9D-9F2B-43D3-8942-81EF1F27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518A-ECF6-43F7-9613-46A0A72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F8B9-B616-4494-9F43-35079A59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2D367-EA74-475D-8A9A-7EA8319D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4EC1-2567-4E86-BB12-86ED55D7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762-2DE8-4C58-A29F-A7E873B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56813-39FF-4100-837C-E2FEA5AA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F59B8-75B2-489F-A7DF-61EB3F52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7FB11-183F-4EC7-9A60-CF4BF61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F2D0-58F0-41B1-A641-A3A397E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007B1-74B2-48DA-BC3E-A80C3F89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2C7CC-83A3-4238-A897-4AC2561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4B1E-962B-463E-9530-2C529CE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CAAF3-9BBD-4C49-8A9A-B98E4056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7929-6335-4947-A6BC-8FAC596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3884-6AFB-4333-96D7-7B5A54A8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B7A-F2CA-4C00-A968-DD5971A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9447-0CDB-4AD1-A133-23039BDE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F3794-708A-4090-BD6F-EC3CC8B7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23532-2EAB-41CD-A866-A3F3794E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6525-E539-488F-821E-787310B6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00A9-DE18-4107-BC67-0F9FCFB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FFE79-2F37-4F78-9DDB-3682D3E0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359A5-8447-438C-B0AB-C98D6C44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7358D-A55E-4B5F-B240-3E90336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2D56-7822-4117-B50B-A2D8090E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59C8-7A25-40B7-B97D-8080B647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8A6-3F87-4482-A86B-AEB36CEB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02AD-61ED-4C25-A061-AA39810A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2731-407D-4E29-BA83-B9965D01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8B967-9617-4BD5-BB72-C667BF2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17B00-82EE-401C-8123-BDF2B4E0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1804-A0B9-4F3F-950D-B4FE7497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D10C1-7156-40AA-8B04-2F1FE73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F3BCE-29AE-4618-A93A-25A6D91E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65E04-A151-4595-9CD7-21649C6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C8C8-60A7-4059-9F0C-6ED3529A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165E3-5F3B-457C-9ADE-32744DA6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FD4-D5B2-4160-966C-0BEB0F0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DAB55-CBEA-45D8-898D-0E01C88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6307C-E2BA-4790-ABBE-6170BEA2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2724-02B0-490A-873E-A7FD00BF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FE8B-65D9-42D5-83DA-7EC84023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5730-B12C-42E6-AA97-5B50A362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8F0C8-32D3-4417-84C4-09FF7A4E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4DFD3-7145-40AA-A0DF-D9BC9EA4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9E28E-7EBE-41E8-B9EE-CAF5FE1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545A-AF8B-4434-9DA1-151AB920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973F8-30C3-4C3F-83F2-791AEA4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780-633A-42AD-B853-B88CB6F3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BCEE-8470-4B77-96A9-0EEDB4F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26FF4-5B6E-40F4-BC61-FB5583D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55238-00CF-4061-8C6B-37DA9CD7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0B5AE-844D-4CF9-AFF0-E88B7A2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7319C-ECFE-4CA7-89D0-24A3E8EA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AAB48-B218-438F-9099-3BC46F6D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E4320-945E-46D8-9662-628B8CCC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4C6C5-48AC-46B4-A0D4-0A011B25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9C553-D22C-492E-86FF-66744103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7C0D9-0A3F-4BDA-8CF2-DD254A4B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D99-BC0C-4BDC-9D2E-1AD63282F4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99A-55E9-4A93-8962-F2C0E7249B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385C-4FD1-4F29-A2B8-C1BF6AD16C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04F2-0794-4849-996E-8F97F50AB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C260-7AE6-4E36-B86D-2A0D976D8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46E4-2085-474A-B71B-751D6CD23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517E-DDF9-438E-AF40-0B474A25B8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5BB4-54D9-4DD5-B12C-4B18C6A4E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17E-C34E-4C3F-B4DB-0EF7D9EE1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504-411D-4227-8D92-522A0279E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BBC3-8427-4162-B1C0-4BECAB3DAA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F17F-E74B-4B7B-8C94-F38A831CB2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3337-69FD-473A-A9E5-CCF3940DF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D6CA-D683-4F8A-8724-8DD00A3D4C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A71B-892F-4A77-8395-7F9DC4186C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1221-82E9-40F2-8095-5383EB05A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8DE-7B3C-46EA-B96B-D8F9AEF3F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8A56-6630-45E0-B41F-8EFB964327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87FC-10DF-4C70-98C7-8FBDF0A63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1089-119E-4F63-9373-0F28BC328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E7C-FA9F-4FC4-8FEC-1AD9CE844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FAC-8188-4AA8-B235-0384B743DD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0E0F-46CE-4571-BE56-79C3BA5B15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B2CD-E409-4D6A-A07E-6D1A9BE797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823E-449D-4967-A310-2DBAE84038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9F6-8697-49EC-A90D-BB2D0F965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4A40-B8F5-4433-B017-40065DC727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5D40-5D7B-47AD-910C-EDEDD14BEE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5E78-D80C-4E87-96E5-798725C744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FE6-3355-42E9-BBFB-92ED37E479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EC2-EC17-4DB9-ACC6-0D4B0FA2E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C0C-7F1D-45CD-8FF5-A9A4BFBCF3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B23-9C8F-4A8C-9E7A-3C1B1BF99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2870-AAB0-4A6F-9D64-B9DEBE879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6690-D3D2-46CD-844B-F44C94EEB9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5122-FB25-44DA-9DB8-7E8444B220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B55F-1DF6-4FAC-BCF7-1231515BEF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4DFA-DCC1-45D0-9F56-EFA04715C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EE40-0058-4A28-995B-81411C49B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FCB-88B8-4505-8EB5-FE1285CDB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0000" y="3119400"/>
            <a:ext cx="3924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04640" y="1228680"/>
            <a:ext cx="8334720" cy="4400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879560" y="24782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898640" y="2809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898640" y="314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14640" y="24732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14640" y="2809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05280" y="3141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796000" y="24638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796000" y="2790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940360" y="314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082000" y="24638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956720" y="2800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956720" y="3151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34000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13200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841920" y="51577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4633920" y="5157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529272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08472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6804000" y="5167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7596360" y="516744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4680" y="2085840"/>
            <a:ext cx="9134640" cy="2686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84360" y="2852640"/>
            <a:ext cx="223200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11280" y="3203640"/>
            <a:ext cx="4176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22320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8373" descr=""/>
          <p:cNvPicPr/>
          <p:nvPr/>
        </p:nvPicPr>
        <p:blipFill>
          <a:blip r:embed="rId1"/>
          <a:stretch/>
        </p:blipFill>
        <p:spPr>
          <a:xfrm>
            <a:off x="4680" y="1128600"/>
            <a:ext cx="9134640" cy="46008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68360" y="2266920"/>
            <a:ext cx="2303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468360" y="2584440"/>
            <a:ext cx="230328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250920" y="5425920"/>
            <a:ext cx="2303280" cy="257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8459640" y="2421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8459640" y="2809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8459640" y="3222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845964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8459640" y="4076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8459640" y="4446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8459640" y="4878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8459640" y="53006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0:5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